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0FB-FF8E-49C0-B526-7440C974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566-3601-4B38-BD55-E648A3ED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019-0BE8-464A-A364-B593C61B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EB1-91E1-43AA-B52B-E2693E55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7683-9A91-4124-AD1F-71047C62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AECC-3727-4704-AD3E-07B8EB1D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7BFC-7319-45F1-91E7-24781E21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4544-ABBA-4F90-9E0D-D1C69C46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DDDE-451D-42C3-98E4-13DBE1EE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8653-45AA-4480-B762-8103865F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9C5E-D1ED-40F7-A5EC-E62D8884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C85-DF44-4032-BD47-9E31828E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34C2-7EBD-4D0F-9867-0BBA525A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5C82-C41A-46AA-912E-41FBC098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470F-7389-4301-9427-CDA19725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4B1F-B1AE-4431-981C-CC4A6AA7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1221-CA76-489F-BB4E-800AC6C3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D808E-F78A-4252-BAAF-4007E435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46A59-C4DF-4F34-AC7A-CF8AC72B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287B4-8E28-4457-ACEF-E32F26E1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58090-8C0C-4275-98B2-2ABBCC38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372F4-0822-4020-BCED-927BCF28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858-0BB1-4B18-ADAA-B204A8B7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66800-917C-4F0A-9995-B12794B0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B3CCE-6849-4F63-8523-8F7376C4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FFA4F-6CEA-44FE-812C-2C06D729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7CC1D-7B2D-48CD-81F2-A443F805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87631-BB50-4C28-A8DE-5F8DCBEA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9E3E-2352-474B-9300-AC5EB9B9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78097-6D0E-454A-B78B-D04F5683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9D34C-889A-4A41-937F-CB07ED7E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80D0F-74CB-4500-A521-5B8F40DA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CC9EE-FF52-4B6E-A70D-5B199855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99D-D0CD-4A45-B7D2-79309C74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D7337-9E90-4A73-BAD0-46FC22CE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6691-7DA4-4BAB-8F66-00397404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C2CED-4A79-46BA-901E-4519A97F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495BB-E724-41D6-B39E-2E2E2DC8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18D60-9C8A-42B9-88C3-75E95928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1DEA7-98A6-48B4-88AE-A0100DD1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E2112-2309-4B3B-9C5F-7D87F048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234E3-7C54-4D8B-8663-9EEB5C37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85F10-3CC5-4E56-90DB-3A654F27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E14-F607-4129-856C-BFC366B5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5B9-8E61-404C-9479-DFA1F1A7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D1F-0935-4E80-8DDA-48B70FFB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2B4-E796-4649-AC6F-1EAE2718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47E-8BBB-4C30-A6E1-1C89611D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5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1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85E5E-9CE7-45C3-BD4F-6CD407AF124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04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47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Group 2051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49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E971F-7E01-4633-9FFE-40A3D8686D7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307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94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3075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6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31C5A-F14C-4E27-A96B-EB83865E4EF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09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4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Group 4099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4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EFF10-1121-4E44-9EA9-A7E4F5BABC4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04040"/>
                </a:solidFill>
                <a:latin typeface="Calisto MT"/>
                <a:ea typeface="SimSun"/>
              </a:rPr>
              <a:t>How Many </a:t>
            </a:r>
            <a:r>
              <a:rPr b="0" lang="en-GB" sz="5400" spc="-1" strike="noStrike">
                <a:solidFill>
                  <a:srgbClr val="404040"/>
                </a:solidFill>
                <a:latin typeface="Calisto MT"/>
                <a:ea typeface="SimSun"/>
              </a:rPr>
              <a:t>.....</a:t>
            </a:r>
            <a:r>
              <a:rPr b="0" lang="zh-CN" sz="5400" spc="-1" strike="noStrike">
                <a:solidFill>
                  <a:srgbClr val="404040"/>
                </a:solidFill>
                <a:latin typeface="Calisto MT"/>
                <a:ea typeface="SimSun"/>
              </a:rPr>
              <a:t> are There?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14040" y="344808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sto MT"/>
                <a:ea typeface="SimSun"/>
              </a:rPr>
              <a:t>Show the picture for ten seconds then they can write or shout out the guess. Go back and count aft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5" name="Content Placeholder 15362" descr=""/>
          <p:cNvPicPr/>
          <p:nvPr/>
        </p:nvPicPr>
        <p:blipFill>
          <a:blip r:embed="rId1"/>
          <a:stretch/>
        </p:blipFill>
        <p:spPr>
          <a:xfrm>
            <a:off x="1581120" y="2011320"/>
            <a:ext cx="5337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zebra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 zebra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9" name="Content Placeholder 17410" descr=""/>
          <p:cNvPicPr/>
          <p:nvPr/>
        </p:nvPicPr>
        <p:blipFill>
          <a:blip r:embed="rId1"/>
          <a:stretch/>
        </p:blipFill>
        <p:spPr>
          <a:xfrm>
            <a:off x="2890800" y="1838160"/>
            <a:ext cx="312408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 frog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 frog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13" name="Content Placeholder 19458" descr=""/>
          <p:cNvPicPr/>
          <p:nvPr/>
        </p:nvPicPr>
        <p:blipFill>
          <a:blip r:embed="rId1"/>
          <a:stretch/>
        </p:blipFill>
        <p:spPr>
          <a:xfrm>
            <a:off x="1890720" y="2090880"/>
            <a:ext cx="53420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 horse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 hors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mi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mouse.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87520" y="1417680"/>
            <a:ext cx="70167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1870200" y="1417680"/>
            <a:ext cx="549576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1893960" y="1417680"/>
            <a:ext cx="51512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1809720" y="1417680"/>
            <a:ext cx="5175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89" name="Content Placeholder 7170" descr=""/>
          <p:cNvPicPr/>
          <p:nvPr/>
        </p:nvPicPr>
        <p:blipFill>
          <a:blip r:embed="rId1"/>
          <a:stretch/>
        </p:blipFill>
        <p:spPr>
          <a:xfrm>
            <a:off x="1450800" y="1805040"/>
            <a:ext cx="62373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1905120" y="1417680"/>
            <a:ext cx="53276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1217520" y="1673280"/>
            <a:ext cx="60022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736560" y="1417680"/>
            <a:ext cx="78310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tiger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tig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93" name="Content Placeholder 9218" descr=""/>
          <p:cNvPicPr/>
          <p:nvPr/>
        </p:nvPicPr>
        <p:blipFill>
          <a:blip r:embed="rId1"/>
          <a:stretch/>
        </p:blipFill>
        <p:spPr>
          <a:xfrm>
            <a:off x="1450800" y="1790640"/>
            <a:ext cx="591048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dog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dog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97" name="Content Placeholder 11266" descr=""/>
          <p:cNvPicPr/>
          <p:nvPr/>
        </p:nvPicPr>
        <p:blipFill>
          <a:blip r:embed="rId1"/>
          <a:stretch/>
        </p:blipFill>
        <p:spPr>
          <a:xfrm>
            <a:off x="1790640" y="1854360"/>
            <a:ext cx="58546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elephan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elephan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1" name="Content Placeholder 13314" descr=""/>
          <p:cNvPicPr/>
          <p:nvPr/>
        </p:nvPicPr>
        <p:blipFill>
          <a:blip r:embed="rId1"/>
          <a:stretch/>
        </p:blipFill>
        <p:spPr>
          <a:xfrm>
            <a:off x="1521000" y="1979640"/>
            <a:ext cx="57466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ra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ra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ca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 ca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6:39:48Z</dcterms:created>
  <dc:creator>Clark Kopelman</dc:creator>
  <dc:description/>
  <dc:language>en-US</dc:language>
  <cp:lastModifiedBy>firea</cp:lastModifiedBy>
  <dcterms:modified xsi:type="dcterms:W3CDTF">2018-12-12T05:20:45Z</dcterms:modified>
  <cp:revision>5</cp:revision>
  <dc:subject/>
  <dc:title>Fruits and Vegetab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7587</vt:lpwstr>
  </property>
</Properties>
</file>